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C31E-1589-4FD6-B767-0805588F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772-BD64-43D1-9897-690B7924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98E-3A6C-499B-A4D5-45FB0E7A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2F1-5522-4719-A4FA-291664C6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3877-0F80-484B-B2C6-794960BA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F93C-1226-4BF0-A92C-BEB3FC04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E69A-B3C6-4293-B01B-3D3CAEED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4F20-BB5F-4628-A64F-E5F45017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ED31-E21C-4875-898A-6AE6188A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B5BD-0C9B-4225-A639-DC0A5E76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E0E9-6EC2-4C1A-ACB3-4D0A7646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050-B206-4EA2-9030-75F74D14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771F-E1A7-4538-99C0-E8B7B824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3E14-1A51-4A93-A042-604D0DB3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7096-3B82-4E66-83EA-C00C5050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84F6-8912-4AFB-ADAE-667CD6E2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0E87-ADE3-4FB4-BC0F-3285CEC9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40E-4517-4125-8F5B-1AF357BB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991F-5706-4C5C-A97C-8A2DB439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E17-AB3B-4683-9016-E2285EFE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77E-5166-4A57-871E-AE564FB0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9F5D-042C-49AA-9B5F-58AD0B7D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CCB-4B19-4FC0-9644-44109EEE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972-81F8-4F04-9F6D-1C846039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5CDA-1490-476C-B026-4040A27A310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AB41-9676-45B1-B07B-063FCE2B7E0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340000" y="692280"/>
            <a:ext cx="4321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安全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"/>
          <p:cNvSpPr txBox="1"/>
          <p:nvPr/>
        </p:nvSpPr>
        <p:spPr>
          <a:xfrm rot="421800">
            <a:off x="2282400" y="3432240"/>
            <a:ext cx="4478400" cy="1940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securit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76360" y="1773360"/>
            <a:ext cx="6932520" cy="3311280"/>
            <a:chOff x="1476360" y="1773360"/>
            <a:chExt cx="6932520" cy="3311280"/>
          </a:xfrm>
        </p:grpSpPr>
        <p:sp>
          <p:nvSpPr>
            <p:cNvPr id="112" name=""/>
            <p:cNvSpPr/>
            <p:nvPr/>
          </p:nvSpPr>
          <p:spPr>
            <a:xfrm>
              <a:off x="1476360" y="1773360"/>
              <a:ext cx="693252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66"/>
                  </a:solidFill>
                  <a:latin typeface="Arial"/>
                </a:rPr>
                <a:t>3.</a:t>
              </a:r>
              <a:r>
                <a:rPr b="1" lang="zh-CN" sz="4400" spc="-1" strike="noStrike">
                  <a:solidFill>
                    <a:srgbClr val="ffff66"/>
                  </a:solidFill>
                  <a:latin typeface="Arial"/>
                </a:rPr>
                <a:t>《道路交通管理条例》第六条规定：驾驶车辆，赶、骑牲畜必须遵守靠        通行的原则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66"/>
                  </a:solidFill>
                  <a:latin typeface="Arial"/>
                </a:rPr>
                <a:t>4.</a:t>
              </a:r>
              <a:r>
                <a:rPr b="1" lang="zh-CN" sz="4400" spc="-1" strike="noStrike">
                  <a:solidFill>
                    <a:srgbClr val="ffff66"/>
                  </a:solidFill>
                  <a:latin typeface="Arial"/>
                </a:rPr>
                <a:t>不满      岁的少年儿童不宜骑自行车</a:t>
              </a:r>
              <a:r>
                <a:rPr b="0" lang="zh-CN" sz="18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6360" y="3716280"/>
              <a:ext cx="9367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6720" y="5084640"/>
              <a:ext cx="93636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1773360"/>
            <a:ext cx="69325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《道路交通管理条例》第六条规定：驾驶车辆，赶、骑牲畜必须遵守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右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通行的原则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不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岁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的少年儿童不宜骑自行车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3659040" cy="498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284720" y="184464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交通肇事电话：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1656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6720" y="4292640"/>
            <a:ext cx="221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12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3659040" cy="4986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335480" y="2060640"/>
            <a:ext cx="419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电话报警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9640" y="357336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11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332000" y="1700280"/>
            <a:ext cx="67690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交通图标大家认一认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5472360" cy="547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35120" y="5738760"/>
            <a:ext cx="347688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禁止行人通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24000" y="260280"/>
            <a:ext cx="4537080" cy="4471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632760" y="5084640"/>
            <a:ext cx="252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禁止车辆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临时或长时停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619280" y="519120"/>
            <a:ext cx="4608360" cy="4541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71280" y="5256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禁止驶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050920" y="907920"/>
            <a:ext cx="3745080" cy="3745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946240" y="4946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限制速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08000" y="765000"/>
            <a:ext cx="4535640" cy="4535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608200" y="581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01960" y="56674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机动车车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734364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35280" y="1393920"/>
            <a:ext cx="4681440" cy="3481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95800" y="55958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非机动车车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979640" y="1773360"/>
            <a:ext cx="3506760" cy="21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大家说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68360" y="836640"/>
            <a:ext cx="8151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行车行驶“七不准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弯时须减速慢行，前后注意，伸手示意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突然猛拐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超越前车时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妨碍被超车的正常行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通过陡坡，横过四条以上机动车道或途中车闸失效时，须下车推行。下车前须伸手上下摆动示意，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妨碍后面的车辆行使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双手不准离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攀扶其他车辆或手中持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牵引车辆或被其他车辆牵引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不准扶身并行，互相追逐或曲折竞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280" y="0"/>
            <a:ext cx="228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自行车准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0" y="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行人准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154160"/>
            <a:ext cx="8521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行人行走的安全区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有人行道的道路上，除道路施工不能通行外，行人必须在人行道上行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没有人行道的道路上，要靠右侧的路边行走。按道路设计标准规定，一人通行道路所需活动空间的宽度：行人徒手时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米，手提负荷时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0.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米。行人在路边没有遇到不利的地形、地物时，在上述活动空间内行走的，应认为是靠路边行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步行街上，行人可在道路中央行走，但有时步行街还有车辆通行，所以在步行街上行走也要注意来往车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高速道路、汽车专用道路禁止行人进入。其他禁止行人进入的道路上，设有禁止行人通行标志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403280" y="2924280"/>
            <a:ext cx="6193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珍惜生命重视交通安全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091200" cy="6453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84360" y="3141720"/>
            <a:ext cx="158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 rot="5400000">
            <a:off x="-383400" y="3056760"/>
            <a:ext cx="2590560" cy="744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车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64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中国每年交通事故死亡人数超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万人 居世界第一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的道路交通安全形势非常严峻，统计数据表明，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就有一人丧身车轮，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都会有一人因为交通事故而伤残。每年因交通事故所造成的经济损失达数百亿元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95480" y="2008080"/>
            <a:ext cx="7724520" cy="2357640"/>
            <a:chOff x="1095480" y="2008080"/>
            <a:chExt cx="7724520" cy="2357640"/>
          </a:xfrm>
        </p:grpSpPr>
        <p:sp>
          <p:nvSpPr>
            <p:cNvPr id="93" name=""/>
            <p:cNvSpPr/>
            <p:nvPr/>
          </p:nvSpPr>
          <p:spPr>
            <a:xfrm>
              <a:off x="1095480" y="2008080"/>
              <a:ext cx="7724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66"/>
                  </a:solidFill>
                  <a:latin typeface="Arial"/>
                </a:rPr>
                <a:t>1.</a:t>
              </a:r>
              <a:r>
                <a:rPr b="1" lang="zh-CN" sz="4000" spc="-1" strike="noStrike">
                  <a:solidFill>
                    <a:srgbClr val="ffff66"/>
                  </a:solidFill>
                  <a:latin typeface="Arial"/>
                </a:rPr>
                <a:t>我国交通标志分为四种：禁止标志用            ；警告标志用               ；指示标志用              ；提示标志用            </a:t>
              </a:r>
              <a:r>
                <a:rPr b="1" lang="zh-CN" sz="4000" spc="-1" strike="noStrike">
                  <a:solidFill>
                    <a:srgbClr val="ffff66"/>
                  </a:solidFill>
                  <a:latin typeface="Arial"/>
                </a:rPr>
                <a:t>.    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16360" y="3213000"/>
              <a:ext cx="15825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0920" y="3716280"/>
              <a:ext cx="15829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50920" y="4365720"/>
              <a:ext cx="15829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732720" y="4437000"/>
            <a:ext cx="158256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4365720"/>
            <a:ext cx="1582920" cy="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1628640"/>
            <a:ext cx="707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我国交通标志分为四种：禁止标志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红色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；警告标志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黄色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；指示标志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蓝色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；提示标志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绿色</a:t>
            </a: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8360" y="1406520"/>
            <a:ext cx="8085240" cy="3606840"/>
            <a:chOff x="468360" y="1406520"/>
            <a:chExt cx="8085240" cy="3606840"/>
          </a:xfrm>
        </p:grpSpPr>
        <p:sp>
          <p:nvSpPr>
            <p:cNvPr id="103" name=""/>
            <p:cNvSpPr/>
            <p:nvPr/>
          </p:nvSpPr>
          <p:spPr>
            <a:xfrm>
              <a:off x="468360" y="1406520"/>
              <a:ext cx="808524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(2)</a:t>
              </a: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行人横过有人行横道灯的人行横道时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1" lang="zh-CN" sz="4000" spc="-1" strike="noStrike">
                  <a:solidFill>
                    <a:srgbClr val="ffff00"/>
                  </a:solidFill>
                  <a:latin typeface="Arial"/>
                </a:rPr>
                <a:t>须遵守          的规定。          ．准许行人通过人行横道线；     ，不准行人进入人行横道，但已进入人行横道的，可以继续通行；     ，不准行人进入人行横道。</a:t>
              </a:r>
              <a:r>
                <a:rPr b="0" lang="zh-CN" sz="4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84360" y="3141720"/>
              <a:ext cx="158292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640" y="3141720"/>
              <a:ext cx="15825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08720" y="3860640"/>
              <a:ext cx="15825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08720" y="5013360"/>
              <a:ext cx="1582560" cy="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476280"/>
            <a:ext cx="21589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交通知识竞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06520"/>
            <a:ext cx="80852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行人横过有人行横道灯的人行横道时 须遵守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人行横道灯信号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的规定。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绿灯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．准许行人通过人行横道线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灯闪烁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不准行人进入人行横道，但已进入人行横道的，可以继续通行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红灯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不准行人进入人行横道。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13:27:4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17:37Z</dcterms:modified>
  <cp:revision>1</cp:revision>
  <dc:subject>主题班会课件(分28大类): http://shop62905894.taobao.com</dc:subject>
  <dc:title>主题班会课件(分28大类): http://shop62905894.taobao.com</dc:title>
</cp:coreProperties>
</file>